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8CBE-B74F-4478-924F-C6035D69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FA93-16FF-429D-87B8-DB956CD1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09A5-E934-4A82-ADC8-9BDE62C4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195-CF9B-4DF5-8442-39EADB0D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C5B-9AAF-470A-9859-C4272621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F5E-006D-42D4-BC44-85E8D7DB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4D0-4CB9-45E3-8C05-96ED09B7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A7C-6214-46CC-9AC3-AA2B40A1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3B5-48E5-4785-9CB5-25E7B097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758-2DCD-42BC-A865-A8A1A42B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316-6A17-4103-AA4C-9F20BF90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567-B9CB-4680-A161-B5A7F559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7FE9D-C270-4F5A-9A65-7F2757C340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32943-59ED-4B37-B8F3-5D6701362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e Fast Food Ga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32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w much do you know about American’s favorite fast foo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What percent of Americans claim to eat pizza regularl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4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What percent of Americans claim to eat pizza regularl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4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Which is these ice cream flavors are NOT in the top 15 favorites of American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colate Alm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colate C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colate M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Which is these ice cream flavors are NOT in the top 15 favorites of American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colate Alm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colate C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ocolate M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How many donuts are produced in the US per wee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44,7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65,3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33,8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How many donuts are produced in the US per wee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4,7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65,3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33,8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Burgers are a favorite food of many Americans. How many burgers are eaten a year by American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bil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 bil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3 mil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Burgers are a favorite food of many Americans. How many burgers are eaten a year by American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bil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3 bil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3 mil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Which topping do most adults prefer on their hot dog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tch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Which topping do most adults prefer on their hot dog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st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tch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ow many pounds of French fries does an average American consume in a ye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ow many pounds of French fries does an average American consume in a ye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What is the top selling cookie in Americ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ps Aho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tter Bu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e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What is the top selling cookie in Americ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ps Aho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tter Bu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e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22:05:20Z</dcterms:created>
  <dc:creator>Andy Blanks</dc:creator>
  <dc:description/>
  <dc:language>en-US</dc:language>
  <cp:lastModifiedBy>Andy Blanks</cp:lastModifiedBy>
  <dcterms:modified xsi:type="dcterms:W3CDTF">2014-06-11T22:18:16Z</dcterms:modified>
  <cp:revision>1</cp:revision>
  <dc:subject/>
  <dc:title>The Fast Food Game</dc:title>
</cp:coreProperties>
</file>